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570-9FD2-455C-B843-0ECB0244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B8C-C416-4E2F-9724-6F31310D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56B-24B1-4B31-B1F2-D3AC7965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706-10A3-4B8D-AB32-354ED16D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277-44F5-4ABB-842D-E408912A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23D-5E2B-47CE-B139-B0C787B3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B96-8F38-4527-9747-904A84F4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6FF-556C-470F-B8E6-D58F6D64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C80-B661-4745-9CB5-5DBD726A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FF2-0D89-4B39-8352-0FB96DC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CF5-12ED-4411-81FD-C9A4F484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15A-DF11-4685-AA59-61663165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3716-4483-4E03-A775-14146AEA4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 Implications of RFID Technology in Health Care Settings”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 Rotenber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E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t. of Health &amp; Huma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hington,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 Januar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C RFID Recommendation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ier 3 (temporary identification of patients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rivacy rules a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risk of identity th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concerns become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ntext be limi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C RFID Recommendation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ier 4 (permanent identification of patients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ercive and profound. Far-reaching ethical i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risk is greatest -- permanent loss of control over disclosure of actual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1 m animals have been permanently tag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HS should prohibit thi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C RFID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vacy and Human Rights: An International Survey of Privacy Laws and Developments 115-123 (200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osed Guidelines for Use of RFID Technology (EPIC 200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FID Technology: What the Future Holds for Commerce Security and the Consumer” (House Commerce Committee 200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FID: Application and Implications for Consumers (FTC 200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PIC RFID Page, http://www.epic.org/privacy/rf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th Care Applications for RF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bulk produ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products for patients (amber via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atients - temporary (ID car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atients - permanent (impl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Privacy 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r Information Practices (F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PAA Privacy Rule (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C RFID Guidelines (20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oncern: collection and use of Personally Identifiable Information (P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n-PII problems arise with data but they are not typically characterized as “privacy concern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 Risks with P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ismanagement: inaccurate, incomplete, out of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isuse: data used for other purposes adverse to the the interests of the data subject (employment, insurance, tra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transparency, data subject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free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PPA AND P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PPA Privacy Rule (2002) adopts multipl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ly Identifiable Health Information (IIH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ed Health Information (PH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Identified Information (P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dentified Information (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C RFID Guidelines (200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FID Users (no P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ies: Notice, disable tags, removal, 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hibitions: Tracing, recording data, coercing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FID Users (with P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ies: written consent and application of broad Fair Information Practices, including min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s of RFID Su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and correct data, remove tags, hold accoun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islative Develop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’l Privacy Commissioners affirm application of data protection principles and recommend deletion (200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state b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achusetts and Maryland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yland established an RFID task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fornia bill provides strong safegu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s at the Federal Trade Commission (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C Recommendations on RFID for NCVHS, H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 Four Tier Approach to RFID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ier 1 (bulk distribution of products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links to specific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llection of P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ivacy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ivacy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C RFID Recommendation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ier 2 (product distribution to patient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risk proportional to collection of P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rivacy rules a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rules will be necessary (EPIC RFID Guid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1:39:00Z</dcterms:created>
  <dc:creator>Trial User</dc:creator>
  <dc:description/>
  <dc:language>en-US</dc:language>
  <cp:lastModifiedBy>Marc Rotenberg</cp:lastModifiedBy>
  <dcterms:modified xsi:type="dcterms:W3CDTF">2005-01-11T19:48:02Z</dcterms:modified>
  <cp:revision>26</cp:revision>
  <dc:subject/>
  <dc:title>PowerPoint Presentation  -  Privacy Implications of RFID Technology in Health Care Settings Marc Rotenberg President EPIC</dc:title>
</cp:coreProperties>
</file>